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916-7F34-4D90-B0A9-BD9F9974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6D4-5ED3-40D9-B4FF-4C63B900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217-498F-4A32-BAC3-453E3027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05A-E76A-4AB6-A03B-1269D9E5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7E4-E152-4709-B6F5-F2B3620E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351-14A4-4C4C-A209-F9D9C574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95B-D49F-4C4C-AA17-EAFF207A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25F-485C-44CD-AA0E-846DD47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4CA-F84B-48D8-BDAB-9C8C1ADA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D35-99A9-4066-A9D2-21308824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EB0-801D-4AD9-8B2C-32D9105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8F2-F450-4337-B9AA-CD39877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797-CDCE-4F03-BF5C-55CFF782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371680" cy="1924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54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SCÈNE DU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34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71640" y="335772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4000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1847880" cy="2476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9272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9640" y="4667400"/>
            <a:ext cx="2160720" cy="1617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580000" y="5013360"/>
            <a:ext cx="3086280" cy="147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4836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9:53:58Z</dcterms:created>
  <dc:creator>Director</dc:creator>
  <dc:description/>
  <dc:language>en-US</dc:language>
  <cp:lastModifiedBy>Director</cp:lastModifiedBy>
  <dcterms:modified xsi:type="dcterms:W3CDTF">2013-03-21T10:00:15Z</dcterms:modified>
  <cp:revision>1</cp:revision>
  <dc:subject/>
  <dc:title>Diapositiva 1</dc:title>
</cp:coreProperties>
</file>